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9E0-0D00-4797-BD39-2F12CB59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F0C-73AB-4AF6-8B1F-DA2D2C5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711-5C6B-4519-93AF-718DA51D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869-CDD2-4323-8BFD-0E7E525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6FA1-84D3-4B6A-A1A2-509A181C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2A8-1344-4FC6-BF8C-009381EF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33F-2558-4C45-8F46-750673E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C6F-1399-4B4A-807E-49C995BD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1BF6-B77A-4C71-935B-FB4F6F86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1FBE-C4BA-4740-86B5-8531B00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071A-96A2-4054-B59D-83F288B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D36-D458-47A6-92C3-2B1E04D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9CAF-6544-41EB-8687-1A94AF0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1ABC-E3EB-4F9B-8A60-23A7886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714-3261-4625-A769-8B91B53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5BCA-3B79-4151-B388-C9A4B8AF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646-092B-4D27-95A6-15DB4DB3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610F-17B3-4CD1-A0AA-9933BADE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ED8D-2338-4691-B266-7978874E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1125-0971-4DFA-8D48-8D10B4B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A8E8-3C30-4209-B0AA-A34C4F3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4D28-66F0-4C96-9142-7C657B69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96D-5EB9-41CD-A95C-2CD13A2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A3A4-F54B-412A-AEBC-EF04E390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02AE-F7AF-4D1A-97BC-3F08596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5E6D-7A7C-4212-82BC-8AA5CF9B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0A2F-31FA-442D-AFA9-6F9DAD2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5B8F-8FB8-4389-A18A-1F51FA2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E40E-7EFF-45E0-8417-AF5565F1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C5F4-CF4E-4B15-8F0B-94BB6D6B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F739-315E-43A7-86B9-C18697A9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4CB4-A85F-442E-B811-5125601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CE04-75DE-4F82-A42D-F0294E7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9CD-73B5-4FCB-B315-D083607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A6EF-F578-4ED4-9770-96A0346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F58E-676E-4F4D-8BF9-53CAAA3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65DA-0CE4-4D7A-B577-C7111BF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761D-B596-45C0-8728-2DF3024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4BD4-D252-43FA-B0C2-2239C06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90AB-D183-43D7-B91E-41846CE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BADB-42A1-430C-9FD6-8245656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2F70-7DC4-4BEE-9AF2-AC599570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9DF2-E2F4-4764-9BAA-0448DC60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C64D-69FB-4485-B014-14851AD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76C-6E37-45C8-8FC4-79297A1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2144-109D-4DA9-B28F-085B829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F012-8353-4D5E-A181-E2DCC22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AF5E-03B5-4F42-87C2-22783AC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A14A-E8D9-4633-AA15-F4304312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3E3A-65F6-4536-863C-9E2DA3C6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E97F-63BF-476E-99F2-0189693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5BA4-862C-4836-99EF-7F6EEE1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A59E-12D7-41DE-8C59-E3186AD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BC65-6D4C-4B84-A27A-D2AEDE8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2CCA-21E1-4F10-8DA0-BFAC3EE9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D9D-2ADC-4A62-8447-8B2E7F63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60979-6051-442E-AEFE-F9B15599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6EF0-9F2D-4EEE-B7A6-7538807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77B1-7786-4887-ADD1-5818B6AB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4319-91D8-4455-A4F4-FED31B3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B825-DD42-4531-A58F-C46C3ADD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9072-11E1-476E-BB6F-EBE316B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50C6-C3C6-4A69-A2EE-4796302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49A18-748A-4A6E-8422-3B9BBC6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A191-361F-4DEC-886E-8B6B8B7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B6C5-3F30-4D3B-9700-D2237D5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A72-A5D5-4AE2-8FE0-5013316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1D05-A031-426B-BA08-583B1D8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1582-F3AA-4F6F-81D6-428BC595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5693-CE8F-4F6A-9A43-0904B70E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BE4B-BA13-402A-BB99-65F3490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C1307-1EDB-485F-881D-88621922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DAA3-40C2-4281-990F-3E3CB4B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439B-0A61-4545-8C6C-02E8AE0B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7941-9588-463D-8391-90E9ABE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DE340-8BC5-4417-8117-E24111A7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B3A2-AA3F-484B-AACE-4658227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C11-3527-402E-8F05-9D2C1519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D72E-7532-47A1-AB55-CEC40C7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071A6-06F2-4812-8782-726E00D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AB6D-E8CC-47C5-A090-07AD312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7216-6514-47AC-BCE6-8460F1E1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E659-5F65-459E-BB22-32336E2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DDB-DAAF-4F2A-BEF2-8461EF3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26D-2B96-4D35-AD43-9CF04DDD4A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FD2D-B3B7-4FD9-9FA3-24E271C816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B57-AE24-4EA9-84C6-E47E450221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07B-2E2E-414F-AB0A-BB97F7D55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929-0896-48F8-9F80-85B54A0C2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8F0-807E-42FA-8F83-CC4A005BD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09F-B0E7-4F6A-81A3-6A172A064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Juniors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2"/>
          <a:stretch/>
        </p:blipFill>
        <p:spPr>
          <a:xfrm>
            <a:off x="682560" y="106056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25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Noun Review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Continue Stor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Homework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July 23 1995 I was watching 60 minutes and saw a tape of Martin Luther King Jr. giving his famous speech that began with these words I have a drea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:snow::swim: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2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workshee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                           </a:t>
            </a: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ssignmen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Write a one page story in which your main character has some dramatic change, like the main character of our story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VMS</cp:lastModifiedBy>
  <dcterms:modified xsi:type="dcterms:W3CDTF">2009-09-02T16:19:07Z</dcterms:modified>
  <cp:revision>15</cp:revision>
  <dc:subject/>
  <dc:title>Sept. 2</dc:title>
</cp:coreProperties>
</file>